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8CB0-50D3-4EC7-BD58-C0A91DD5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6AA0-AD3C-4E0B-876A-05AE7208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3EDE5-4069-48CD-96C7-39B2557C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CC097-DB63-41A2-9CA7-B6AFED89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8FECE-D49F-4A12-8EF9-8B219AA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ECB54-A985-46C9-A76D-5863D38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414FB-5976-44CE-AD05-A6F0F51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F77A1-EC95-49AD-B02F-2704976D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E308B-A375-41E4-8F93-65E4251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FAC63-163A-43F6-A28D-D036CA87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89B4A-2069-427A-BD58-5E2B8F20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EF5FA-BC9D-41E8-ADAB-B6C2384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DD0B-A052-40F3-8F40-0D2D7153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409CA-2402-408A-B49B-D7966DB8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0A91E-5E71-4E1C-9553-5CB9846F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7F0D5-0F58-4245-8E0A-431AA547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AA652-CC78-4C0D-8436-77A9098A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9E2E5-30FC-498A-83E6-8BFCB495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A6EF6-E405-4B30-8A8D-226B3C7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CF59F-DE4B-4DFE-8442-1B34BBE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DF7DB-4AEF-4527-A2A0-C583236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319F4-D4DF-4C2E-BF95-240C0275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789EF-2033-4EE5-AEFB-68B24CBC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41D2-8D56-4520-B9B4-71F8D8B7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FA4FA-0449-484A-AFBA-53D1E5AB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99632-A612-4D5E-AB87-CFD0A4EE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335FA-B488-4985-9EA3-B706B8C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AA371-F045-4606-82CF-5C4BBF1E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A6D4C-B3D7-4A28-A998-744878BA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EF2A5-C4F4-45AF-9438-7264B383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52AA-BC0A-40B3-AD86-68A183DC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15170-E7FA-4C1F-B518-CC71437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F17F4-0212-43E7-9B3B-07B35C0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6147E-124B-45B0-AAC3-7F11512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6F47-4AC3-4EA4-867B-44BA0AA1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D412D-D7B0-41B7-849A-5BAF1A5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9EA7-4D2A-41A3-A74A-0AC343BB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8DFD1-CA4C-4C3E-9CAA-8F9BCCFE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148A7-FCBD-4B84-9B15-B13F2F18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508FC-FB71-4629-8CAE-77E0790C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0B49F-FFCD-42B7-BF01-0393DD1B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2F65D-AC42-40D7-BFA4-DDC4A2DC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D67CD-0A84-4891-A5C0-786FBBE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BD5FC-0F55-473B-A59A-0EC91DD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730E6-F85D-46C6-B84B-EA37053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6A49-DE4B-4524-954E-79445E5B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4D95B-5108-4A27-9F0F-5ADDED9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F008C-E422-4A39-B7AD-E475E88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C018D-0B2D-4343-867C-19473CF2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09AE1-742E-4283-94F2-AE498C85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1626E-2FFB-4C6B-A375-6F65300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707F5-9500-467D-8377-63A531D6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75D95-271D-4108-BEBB-59072381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37354-4CB5-4CF3-9B37-BC4DB6E6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E83F3-5C53-4C8C-B5EA-F1B0968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4547C-1384-4AAE-A1CA-8838C796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0500-7628-4F85-AADF-D3787256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44DE8-7C24-41CC-ACF7-06CC265D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7661B-3F20-4B20-8457-800691C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58EEB-CB11-4A6F-9293-7C23B45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6771D-CC6A-4B9C-955D-0FD47CD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1343D-2461-4609-A752-0E992918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C02E9-F67B-46E9-B27B-D18239BD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03AF1-DE88-439D-99EE-0DDEE34C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C5FBF-DD55-49CF-A521-64C27EAD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A2A14-9C46-46EF-9D44-F5332C6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59088-F0B5-4826-B750-767575D6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CF11-3E2A-4999-8448-B607C38E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E1B2D-052A-48FA-B77A-53636C9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F532A-706A-4A2B-B176-6A3811F1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9290A-60E7-47CF-B84E-345EBB35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3EB69-CC93-4F93-BB22-A8AB608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D523A-E090-41B7-8838-1F29819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C6B56-7E20-4112-A577-2D264DE0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15E46-9E6C-4212-82B4-3CD897BB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0900E-6EEA-4E1E-AAA3-5E1CAAEC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2A1E9-7AC1-48E2-94F5-B0374525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011B6-A51E-44D2-92BC-E77F9C0F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832-D6FC-4AF9-A3D2-3B913264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FEFE1-B01F-4CC1-B432-F7C54782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2A755-FBAE-4086-B32B-F00A08F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3FEAA-1A25-4B1D-9350-7AEA2518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C9218-AEDA-45EA-A33B-7E9FDB3C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53822-D935-441E-81AB-59D1D484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4B4B6-A59B-49BB-97E2-7A786D6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9C7C7-4517-4549-974B-6265CFF6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F8292-E259-4B4F-BE8D-13A65FF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34310-E580-4869-BE3D-FC7BC018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A2081-E1E3-4320-840A-6AA1EA73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A7CB-00AB-4ED3-B0BF-BA10043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26104-249B-402E-9F8C-B330237A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B2409-3E81-4418-9EA6-E9B25325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43175-53E7-41EC-BC9A-F012E511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EF99A-D833-4C3E-A1A9-6711EDF1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10E71-5A2F-41C7-AAAD-90A1E2A1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CAF3B-843B-4B3B-AE4A-79B7EB5E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8AA43-0CCB-4BDF-A395-9BBF89E3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6176B-D43E-49F8-B777-D28BBD6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23033-FDB6-4E3E-A5DC-C8A9D0F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0D00E-8477-4118-8635-7A0D00B7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8F27-DCD1-4D1C-8B60-CB43181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F0BCB-E16B-45B6-8012-B1274917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966DA-494E-4EE2-B55E-328E0885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C8FDE-A69C-4A9C-8474-3E3FAA28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351F3-6640-4D9B-9746-F5ED3B60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6D813-BC4D-4077-9111-E5A0BB8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BFCD9-DF49-4BC8-B653-FE8AE9E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06BD7-EC74-4D54-82F3-94014C7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12F69-262A-41D5-8A79-CBE8038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D9551-AC33-481A-A59A-E6F972C7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9C43F-8988-415E-BF1B-1D7A443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D616-03DE-4B02-83AF-1FC21487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9285-19C5-4D11-95B9-0DCF012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02DCA-9DC3-455B-A90C-EB53FB4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0E5B5D-B055-4A6B-A0DF-FD1B2C04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22B32-927D-44B6-ABA9-1F0690CA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4AEA0-3E8B-482F-BB20-DF284DFE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E9666-BB9D-4234-83FD-48A6B303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71F93-3F47-4292-9A77-355E924D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19663-99B4-4B55-AB56-D6CC72C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335BB-478A-4D3B-9C1F-7343415B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04919-730C-4FBE-B040-A84B42BD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C1E444-943C-40E4-A431-CD0013F0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BD2-4988-4B5D-9E1C-A56EEF4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1B732-E61E-432F-969B-234DDFD1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4252C-D419-4EAD-BC67-116D2EF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60BB3-7567-4A83-B7F1-D0AB50A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6374DC-6CFC-4DCE-AC88-09CB618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7DE47-1D1A-4DF3-9FED-2435874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D99CE-8E70-4EC1-80F6-2C88D109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20511-191A-4238-9689-9DF6DC3F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7E671-23B0-4B81-97EC-3A7A2AE8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7326E-FECA-426F-AFE3-3FEB6CF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5A248-42D8-46CD-AE05-29EF9999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A1C5-AF7B-4630-ADA3-A12425C1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5B4BB-60A0-4C77-8734-F24B3444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4F48D-DE1C-40B1-A20A-C079D098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15F92-1375-4980-88A1-1BBFA899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096A6-E0C0-4ADA-81F3-CD8C50FE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B7DA4-7B0D-4C2E-AF7E-A4287E3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1ED93-795E-4739-ABDE-4E169A86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2CF62-8A9D-4055-944E-3C107F8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1D143-F215-4A3B-8A5E-7CDE0ED7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A75B0-0E77-46D0-8651-369A2ADF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13696-0AC8-4F1F-819D-11F0B7FB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AC91-ADEC-4217-A5A0-8386E410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79DAF6-FB6F-4519-9748-6F914A39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2EC8C-60FB-47F4-A017-A166F369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39465-D856-400C-A871-2A727D73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3105B-C94B-4381-919B-A9AE011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B10BB-2E7B-4442-A572-C5C51B5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11A39-BEE7-4D47-9158-BF5C463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63FFB-3262-42D5-A719-BEB4674A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E75A2-ED3A-4423-B33E-5F807F73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28196-B06F-4826-A777-1E4F14DD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E900B-F5B2-4430-869F-BE1D5EEE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95C0-E554-4F6D-8C27-CC2D4549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0E88A-E1F5-4F4B-8FD9-52E3CEAE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CE8FA-1CE1-4EFE-BB55-8484DEFE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06B82-7B73-4671-B2D5-9B7E1399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54C2B5-F87D-40FF-B2C1-935C9B6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56CA6-DC50-42EF-BDB0-983BD8D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7148B-B79D-43C0-A62A-8428A3E4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25452-2655-4366-A64B-CDDF6077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8E2C60-16F4-49B0-8B4E-FCD1A6C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C18AF-AFDB-4AB0-BE02-765A621B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F66F28-D558-46D0-A006-1525C67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E888-C407-4DF7-9468-16FACE0E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8201A-6698-49A9-9CCD-C104A1C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DC2C3-B76D-42EA-B167-6CC525A1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68E7FB-425D-416F-BE18-9D8B07B3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96A38-FAEB-4C32-AEBE-4086ACB5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EEB6A5-52AD-4A1F-B0B5-EE9B8504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C3CF7-B939-4288-91A6-FD7A677F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A17E87-7C21-43DC-91FB-81E8A6F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DF192-68EB-4597-8E07-458C76D2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4E5A69-7A43-455C-B27C-A9682300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429A13-1FDB-4A6F-8FB2-D0EEF09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C64F-E7B5-4C35-B540-76B9C523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7C7A5B-5598-4597-86B3-03F26F39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E63AB-DDBC-4D3D-AB85-B2CF606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10AA5-6AEC-43E3-87BE-B5ED8BC8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266448-D03B-4693-8949-DD31B582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CEB7BF-A5E4-479E-A249-D4A82410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7BE359-5339-442B-8BAD-9A3BA5D5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70A245-2624-45AD-9165-5D8E6641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1F53A9-F9A5-462F-8A62-A3DA2CB0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21A72B-4B1A-493B-B73F-A51E6E03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A38695-4726-49FC-8767-3FD4C65F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054F-F834-4C17-8F94-E50A854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EE59A-20BD-41C9-962C-A569183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E6AA33-806A-4992-8088-B9FE00E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8C8AD-7808-4EE5-B8AD-6334DA64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AD37AA-4AD0-4B20-94E8-00A9335A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E7884F-857E-4F9A-B4BF-1043154D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2DA05-87A7-4BFF-9E3E-BDE792DA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F14B4D-A348-45C5-8117-19DD5AA1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4E2039-34D4-45E7-8FD4-B0A4AA3F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9352AB-F686-4CE1-A0D3-AAF29443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62071B-ECEC-4EE0-A632-5DD43F9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85B0-E5B2-44E7-8D6F-D5ADCE58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58986F-6796-41C5-8423-93CEA2E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EB27F3-C96E-481F-A897-235F4E3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84D1BD-B0F5-4B0F-8804-5B11351F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3EE1D1-C508-4C90-AA7A-84F0B36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8261AD-05F7-4E5D-939C-FF6C2684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BABB3C-DEB0-4F07-B8C3-DE5DD7D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1C835C-AE1E-4780-8946-6AE3B9E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CA2075-2046-48CD-B72F-2E735BBD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29343F-1068-460D-8335-D53F998F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7DC8633-8A56-4C62-B8FD-4D3B9E3A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5458-070F-4DDD-8CFC-6081F9F2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0BEB6E-AAB3-4AA9-AAA6-9CA100A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CA26D5C-3C37-4F57-B766-7F878A8F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1B41A8-BE46-4A32-821F-9BC71017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D324BE-DED1-4105-A310-C56FBA3D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FE18554-DEFF-4BDA-8A5E-2CDE8195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B68498A-18A0-4C1C-9FC6-C6ED1A7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622FCC-3551-4AB1-8398-9C246FF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B6A188-FAB3-4BE5-8D9D-F74F5D8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74E364B-0D2E-4251-A130-34DAF71B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6A3BF3-E455-4FF2-9E75-5F74F46E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E847-803E-4D81-85ED-AB3E413F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302E-4573-4629-B4BD-8DA92090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A1A0664-31DB-46EB-AD6B-06E71BBE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87D39D-97B7-43F9-9DE8-D1F56FE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4BE5B7E-3EB7-4FE9-9955-9CA045F1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46DB78F-AC3D-4090-80AD-91A03B1B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1821EC6-DBFF-415D-BA4E-8236CCDA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9B4DEFC-B5D6-4E63-83C5-B81DA3D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3ACD8B-F36B-4324-A9D6-D02B737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F1F920B-5D69-4794-894D-65B3014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8C680F5-274B-4D7A-8495-A812E8B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AB53A5-13EA-4769-B484-ECD55F8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5DCF-9D0B-4CD1-9209-E4AB232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A33D56-7EC6-4B4F-A46F-17F5DA36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D1DA42-EF98-4C4A-812F-BE6E16A8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465E38-C4DD-4B62-A192-737FCD02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B8FFFB-8214-4CAC-9DD7-6C07B009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03C780-2796-4EF8-96C7-9C36DF95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BFE1CC-4267-4C65-9B93-A9E66235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AB2999-E1C4-4AF4-8503-7E39914B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C86936-A36D-44CA-AEE6-BE7AC60F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4E5D16-772B-4FAC-9EF3-5FB28BEE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EF53E8-4445-4B9D-B8E3-C4CAD5D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C5DB-2BCC-4E90-A5AC-68EC8759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A242B3-84EC-48DC-A7AC-512E47D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4BD64D-1664-478A-81C8-D2313DB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607E99-60D9-4368-A974-CC210EF2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C8FBF4-FADB-4D2A-BD2A-983FA2CB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F4D47F-281B-4226-AD32-81030725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C9FA969-0688-4F04-A080-36634571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898B23E-ABA5-4F24-BA87-BCE39485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77195DB-DEBD-4E31-A3AE-7DD23D53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09B99D4-1E9D-4FCA-94E7-5FD79318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4D2FDF-81B6-4AB1-B978-54F4E29F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3E8A-23A2-4D37-98FF-0EF85303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1F87BC6-31C9-405E-A117-69A5C96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EED5396-2C5B-4CF0-B5E2-FFB0BF4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04E290-DF9F-4B63-8C6F-A0A09F0A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8D1486-F6D4-405A-8623-36A2513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CC8CF42-D7D5-475A-8086-581E1816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FFDA59A-7E45-4AEB-93AF-4FD12761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C8924C-8D33-45C0-BA8C-1AEDA7C9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BDA60B-4EE2-40F4-99DB-85D10CBC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967594-EBC6-4485-B52A-147F5AE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364031-9BB6-450A-9F45-7AB25180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9504-8154-4088-882F-7E390579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A19751-3711-464D-B455-7756D28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A2C126-BB00-4E1E-AB70-188EB890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F0CB8C-F739-4B36-92A3-BB5080C5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651B80-CB25-410A-B449-BB49A85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3115B2-8C5B-49D6-A066-85C2C95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368B27-BA76-44CD-A980-7E4F09D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5DEF6B-763D-466C-83A0-68B83B2E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EFE329-0DD9-4432-BD15-4BF1B0BA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6F9FEE-95E0-4821-B43A-17FF76C2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0AB22E-BB08-4D54-A207-BCC751C2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0CE1-025D-4725-A2B2-0740BCC0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83F582-F199-4E71-9395-48EAB67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31EAEB-D59C-460D-970B-83235862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D45214-E5B1-4A26-9E16-5D34EEB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5FEA19-B3CC-49FA-90E5-7AED79F4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9A3E23-8645-45AD-8D0F-A9211BE9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1D19F4-B679-438B-B2EF-26EFDD3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68C28E-0E79-4E55-9734-CFE5211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6D8E13-10FF-42D2-850C-C2ACDEF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354206-8963-43D3-8C40-06B01CDF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C5A9AD-8132-478E-86F3-3098C30B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96D8-91D4-4986-8303-10A7CEA1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1E6645-8FC4-401C-AAB2-2505CA54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D8D2-A341-47D0-BE77-80708DFF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33CD-9010-47E4-A0D5-A7ABF10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329C-52EF-47F2-885E-37EB6594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ADCE-19BB-4523-9F49-5C1A1F2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21B0-8E06-4609-BE7E-63112BA8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7745-E6B8-4B21-97B8-AA4DABE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96FF-7169-4A1F-83DF-0FEAFCE2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A5F8-8D07-4C0C-A196-8923E7F4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D1AD-A3F5-4B4A-BF4A-8FAA3E4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071D9-655E-466A-99EA-2C8AD08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2D1F-565C-4726-B476-0EC5DA5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066EB-BA6E-49DC-8FBC-6D7D3882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D966-33FF-4DE3-9211-33812791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1DFD7-CF5B-40F3-B7AF-65DF0B88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731A-625D-471B-BFC4-A3DDF16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83CA-13DD-457E-8990-2918B443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9149-03B2-424F-8AA7-268838B3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BCEAD-D497-4D43-A733-FF6C4E59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DCB0-B7BD-417F-9B4F-F46951AB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F18A-C9DA-4A3E-B6D1-084A9525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E012-9C12-446D-9F08-7C0061D2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DB6A6-EFB5-4AC0-9D13-307A67E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EA63-D971-4A76-8164-287A72D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2CD2-B5BF-4494-8E54-6D0E6C9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DD21-2280-41EF-9506-826B0F5A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29F0-4A2C-41F0-875F-C2D589A7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05F8C-C324-4F20-B504-9262085B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9DE3-6D3A-4899-8EC8-8B0527DD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0540D-6EF9-4817-961F-1AAD1316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BCD0-49D2-4A41-9D56-84557386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00715-CF9C-40FC-9BE7-DB8187B9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4EC11-0AFD-4F9C-99F4-BF1D6441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7D9D-CFA7-4A84-87AC-FDE1D3C0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1F2B-1E9F-4B0B-AB32-D35B341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3490-CBA7-4E41-A3AA-A6129D10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A444-09E8-4C5D-928A-B3EFCAC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5E87-2C88-4A4E-8F5A-F14D9D6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B41B-5511-420C-A668-F9784E61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C540-FE25-4356-ADE3-4B2F1E1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DBAD-35FB-4C76-8891-95BB5E96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853E1-38EA-4FFC-BB59-1010294E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7784-5853-4636-A2F2-F478B1F0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C8BB4-B8A7-41CE-BA15-EE8F6EDE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C11B-0C63-425D-B4FF-D70EAB0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37ED6-BA88-404D-A3EE-3F5265DF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721B-5802-4DCA-AB91-DE3E64D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2CA1B-FBC4-4063-9E73-94B4A01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6307-E70F-4F00-B7D5-9C8FF6F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57411-E977-4839-B673-01C0CD36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96F44-CBA3-49C1-BCB9-64BE9B6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275A6-A5F8-45C3-B7AB-74AF4322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1C59-6513-46DB-8688-BE4DCD62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75B5-D557-4F18-941B-BEAF0A89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4E98A-559E-4F2E-8DA6-796C9612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66612-E934-46E9-B7FB-626E426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7ABA4-657B-4C27-B815-B2DD7DFC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73A5A-063C-40ED-B4DA-3BB4BBAC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A5E64-A8AD-476A-9C7E-48BDC20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2431-B99C-46B7-AFC4-5B1AA83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C7BB-D0FF-4AC2-AEBD-0A87A9F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8A5F3-39A8-491F-93C3-1F2E079A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EE84-54A7-4811-BEC1-4E6E5120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8CE59-DE07-4553-86E8-3E482FD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0E2D3-FD42-47AC-9A1E-368E72B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737BE-76CC-4049-B9A5-7075A17F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92EFB-7F38-4D5C-8F93-A003A541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8BA84-8029-4EB0-9D7D-2F65ABB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5F105-5D33-4333-A16F-1101BA5B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31AC9-D7C5-4826-A38A-77FD38EB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7460-946C-43C2-92B9-1C542A23DC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BC8B-1BE2-44BB-A08B-D8E080EADF02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3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F3CF-B007-409B-86B0-2B6BE95FD27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7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80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8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83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8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1C13-7C70-41D9-ABD5-A1CD0BBADDF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72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52DB-E187-4B45-B656-556EBD2A343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77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1CC5-B9B6-4CC4-9601-1745DC56DA5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A7D-29EF-4BAC-9D9F-E3BFCA5AF1A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85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55D4-F3A8-43E1-8566-B990251D128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443-6986-4A7C-ADDF-94AD6F8E47C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77F-5D1F-4873-A7F2-F692AAC918D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0E9-5E6E-4759-A5AB-2F1FB1612F44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7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5A80-C250-4FFF-ACD0-1BB541F46F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ftr" idx="5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dt" idx="5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60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D90A-5F66-4018-880E-C8EEE7733FE1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61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sldNum" idx="6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26B2-47BF-4111-A218-A210F780FADD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66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3FC-82B7-41D5-B2D4-EE403875F48B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69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3856-5464-4177-9E6A-2F6974FF73BA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7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 type="ftr" idx="7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 type="sldNum" idx="72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DF14-789E-4E8A-9B38-C228BD80B76C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A5C-7AC8-4C98-BF29-E77F00835E07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dt" idx="7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sldNum" idx="76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1DDC-90A6-4799-BEAF-A04D94BC15D3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dt" idx="77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ftr" idx="78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7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8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8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EA9-D3B6-4924-A78D-A0195836B23C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sldNum" idx="82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11D8-786F-405A-BEC0-8DAD8FF142EB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dt" idx="8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ftr" idx="8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8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9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9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dt" idx="8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ftr" idx="8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 type="sldNum" idx="8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B680-A8F0-45DD-A0BC-771B45A40C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6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9601-81AB-4667-A8AD-A9D1ACEE4F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3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3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3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8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ftr" idx="8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sldNum" idx="9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0363-28B7-4E86-81F3-2197B0EAB4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B0D-75B9-4917-AEEA-24A38484CA6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22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2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2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B866-6206-4143-BA71-022B433C6D4C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FD7E-44E7-4ACF-87F0-0C2DA9518A7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8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0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1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2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39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5D37-EA2B-4437-B1F9-2A97B3E3A0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7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7268-8E4C-4924-BF72-A4CF03FED8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BDC-4393-42AC-9E2C-A9695099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29cd60"/>
                </a:solidFill>
                <a:latin typeface="Tahoma"/>
              </a:rPr>
              <a:t>Сопроводительный материал к лекции:</a:t>
            </a:r>
            <a:br>
              <a:rPr sz="38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Правовые основы противодействия коррупции. Антикоррупционная политика в области образования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647960" y="44197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.п.н., доцент кафедры управления образованием Солодилова Т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Государство и общество 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а роль государства в борьбе с коррупци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а роль общества в борьбе с коррупци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о и общество сообща должны решать проблему борьбы с коррупцией. В какой форме это должно осуществля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ороленко Владимир Галактионович (1953-1921) – российский писатель и журналис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Нет ничего ошибочнее, чем мысль, что казнями можно регулировать цены или отлучить от взяточниче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Правовые основы противодействия коррупции. Антикоррупционная политика в области образования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 бизнесмен с миллиардным состоянием, и чиновник любого ранга должны знать, что государство не будет беспечно взирать на их деятельность, если они извлекают незаконную выгоду из особых отношений друг с другом. …Несмотря на предпринимаемые усилия, нам до сих пор не удалось устранить одно из самых серьезных препятствий на пути нашего развития – коррупцию. Считаю, что социальная ответственность должна быть основой деятельности и чиновников, и представителей бизнеса, и они обязаны помнить, что источником благополучия и процветания России является народ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Из Послания Президента Российской Федерации Федеральному Собран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</a:rPr>
              <a:t>ИНТЕРНЕТ–РЕСУРСЫ </a:t>
            </a:r>
            <a:r>
              <a:rPr b="1" lang="en-US" sz="28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Times New Roman"/>
              </a:rPr>
              <a:t>ПО  АНТИКОРРУПЦИОННОЙ  ТЕМАТИКЕ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52280" y="1598760"/>
            <a:ext cx="79250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РАНТ. Сайт позволяет ознакомиться с законодательством Российской Федерации(с комментариями) а также с новостями органов государственной власти Российской Федерац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//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rant.r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ероссийская сеть распространения правовой информации "Консультант Плюс". Содержит онлайн-версии систем; графические копии документов; информации Минюста РФ; обзоры законодательства; полезные ссылк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/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ltant.r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центра антикоррупционных исследований и инициатив "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cy International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ransparenc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g.r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ратовский центр по исследованию проблем организованной преступности и коррупции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//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rtracc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gap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ивостокский центр по исследованию проблем организованной преступности и коррупции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 //crime.vl. r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Сравнение !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равните понятие коррупции в российском законодательстве и в зарубежн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кое понятие шир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Что мешает, на Ваш взгляд, пользоваться единым понятием коррупции в правоприменительной практик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1593" name=""/>
          <p:cNvSpPr txBox="1"/>
          <p:nvPr/>
        </p:nvSpPr>
        <p:spPr>
          <a:xfrm>
            <a:off x="304920" y="155412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Franklin Gothic Book"/>
              </a:rPr>
              <a:t>Профессиональная коррумпированнос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594" name="Рисунок 3" descr="http://www.public.ru/upload/images/corruption2_4part.jpg"/>
          <p:cNvPicPr/>
          <p:nvPr/>
        </p:nvPicPr>
        <p:blipFill>
          <a:blip r:embed="rId3"/>
          <a:stretch/>
        </p:blipFill>
        <p:spPr>
          <a:xfrm>
            <a:off x="990720" y="213372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5" name="Заголовок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pic>
        <p:nvPicPr>
          <p:cNvPr id="1596" name="Содержимое 3" descr="http://www.public.ru/upload/images/corruption_education.jpg"/>
          <p:cNvPicPr/>
          <p:nvPr/>
        </p:nvPicPr>
        <p:blipFill>
          <a:blip r:embed="rId3"/>
          <a:stretch/>
        </p:blipFill>
        <p:spPr>
          <a:xfrm>
            <a:off x="1247760" y="1554120"/>
            <a:ext cx="6800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828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 txBox="1"/>
          <p:nvPr/>
        </p:nvSpPr>
        <p:spPr>
          <a:xfrm>
            <a:off x="30492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счетам общая сумма коррупционных сделок в системе образования, по фактам, фигурирующим в прессе в 2010 году в регионах России составляет порядка 12 млрд. рублей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сумма складывается из двух потоков: первый - злоупотребления чиновников и управленческого аппарата учебных заведений, и он составляет основную долю; второй -коррупционные сборы с учащихся - родителей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департамента образования Перми подписала муниципальный контракт с победителем конкурса ООО "Пожарная защита". Работы по этому контракту не выполнены. Информация о пожаре от школ на пульт не передается, отсутствует паспорта на оборудование и программное обеспечение. 84,6 млн. рублей тем временем уже выплачены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енбургской области на протяжении 5-ти лет должностные лица администрации незаконно  пролонгировали  контракт на оснащение школ «тревожными кнопками» с компанией не имеющей лицензии. Ущерб от их действий превысил 11 млн. рублей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0 год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ерживают первое место по количеству коррупционных фактов.  Это составляет 43% от общего количества фактов взяточничества и злоупотреблений в образовательном сегменте. Коррупция в школах в «эпоху ЕГЭ» выросла в 20-25 раз, частично переместившись из приемных ВУЗов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b9899"/>
                </a:solidFill>
                <a:latin typeface="Times New Roman"/>
              </a:rPr>
              <a:t>Коррупция в образовании.</a:t>
            </a:r>
            <a:r>
              <a:rPr b="0" lang="en-US" sz="3800" spc="-1" strike="noStrike">
                <a:solidFill>
                  <a:srgbClr val="7b9899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ктически на всех уровнях от детских садов до диссертационных советов коррупция стала нормой и давно перешла в разряд укоренившихся форм взаимо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средневзвешенным экспертным оценкам, оборот коррупционных денежных средств в отечественном образовании составляет около 5,5 млрд.долларов. Только на этапе поступления в высшие учебные заведения масштабы коррупции оцениваются в объеме от 520 млн. (данные ЮНЕСКО) до 1,5 млрд.долларов (данные ДЭБ МВД России). Такая же сумма тратится нашими гражданами на коррупционные платежи каждый год учебы в ву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Уголовный кодекс РФ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3 ст.15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мошенничество, совершенное лицом с использованием своего служебного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4 ст.160 -  присвоение или раст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204 -  коммерческий подк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1 ст.285.1 -   нецелевое расходование бюджет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 285 -  злоупотребление служебным пол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1 ст.286 -  превышение должностных полномо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2 ст.290 -  получение взя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291 -  дача взя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2 ст. 292 -  служебный под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1 ст.327 -  подделка, изготовление или сбыт поддельн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3 ст.327 -  использование заведомо подложного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vni</cp:lastModifiedBy>
  <dcterms:modified xsi:type="dcterms:W3CDTF">2013-09-03T19:33:4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