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CC8C-61B1-4417-837D-D003C33F6B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C93E6A-5C8F-4C0C-BB5A-AED00BC7C3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2BA58A-A104-487F-96D5-934747D1DE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06D899-B1F5-43C9-A9B2-EFC4B6C07ECD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6B40E8-32B2-4438-BC99-7A96A2F1A8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5B070C-6ADA-4B2D-88CA-DE32A54E423D}" type="slidenum"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6A54AF-AB58-4831-98DD-452D256DD64A}" type="slidenum"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E21F9A-A77F-4E71-8D2A-532A97FCE4E4}" type="slidenum"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393DF5-D55C-4BFA-A911-80D5C211C6E3}" type="slidenum"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7CE-CB44-48F2-ACC2-DC92D055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D3C-03D6-4D0E-8527-76128777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168-FB1F-450A-906C-4F9310CF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49D-4E52-49CE-B0D2-7CF7F6F6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82A-599D-47FE-BF8C-B9AEB257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B88-D48A-44D0-B4E0-19881297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204-E3BB-4347-8BB2-BF1B9CAE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62B-4189-4006-923F-9FAF55D1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7E4-74EB-4670-B71C-3464BF6E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B19-6563-4A79-9C3B-430F613E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08F-85DE-4129-A925-66A3701A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9D6-1737-439F-A22B-86175CCB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829E-1B4E-4EE7-B1C9-5F6B0E181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8D62-CED2-4B2B-8925-B9436DD47672}" type="slidenum"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-189000" y="-12600"/>
            <a:ext cx="8425080" cy="116496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7"/>
          <p:cNvSpPr/>
          <p:nvPr/>
        </p:nvSpPr>
        <p:spPr>
          <a:xfrm rot="5400000">
            <a:off x="4321800" y="5122080"/>
            <a:ext cx="430200" cy="504720"/>
          </a:xfrm>
          <a:custGeom>
            <a:avLst/>
            <a:gdLst>
              <a:gd name="textAreaLeft" fmla="*/ 66960 w 430200"/>
              <a:gd name="textAreaRight" fmla="*/ 376560 w 4302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396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3348000" y="3789360"/>
            <a:ext cx="237636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AutoShape 7"/>
          <p:cNvGrpSpPr/>
          <p:nvPr/>
        </p:nvGrpSpPr>
        <p:grpSpPr>
          <a:xfrm>
            <a:off x="5857920" y="2090880"/>
            <a:ext cx="3110040" cy="2315880"/>
            <a:chOff x="5857920" y="2090880"/>
            <a:chExt cx="3110040" cy="2315880"/>
          </a:xfrm>
        </p:grpSpPr>
        <p:pic>
          <p:nvPicPr>
            <p:cNvPr id="56" name="AutoShape 7" descr=""/>
            <p:cNvPicPr/>
            <p:nvPr/>
          </p:nvPicPr>
          <p:blipFill>
            <a:blip r:embed="rId2"/>
            <a:stretch/>
          </p:blipFill>
          <p:spPr>
            <a:xfrm>
              <a:off x="5857920" y="2090880"/>
              <a:ext cx="3110040" cy="23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045120" y="2238480"/>
              <a:ext cx="27432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Новые технолог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AutoShape 8"/>
          <p:cNvGrpSpPr/>
          <p:nvPr/>
        </p:nvGrpSpPr>
        <p:grpSpPr>
          <a:xfrm>
            <a:off x="244440" y="2017800"/>
            <a:ext cx="3029040" cy="2388960"/>
            <a:chOff x="244440" y="2017800"/>
            <a:chExt cx="3029040" cy="2388960"/>
          </a:xfrm>
        </p:grpSpPr>
        <p:pic>
          <p:nvPicPr>
            <p:cNvPr id="59" name="AutoShape 8" descr=""/>
            <p:cNvPicPr/>
            <p:nvPr/>
          </p:nvPicPr>
          <p:blipFill>
            <a:blip r:embed="rId3"/>
            <a:stretch/>
          </p:blipFill>
          <p:spPr>
            <a:xfrm>
              <a:off x="244440" y="2017800"/>
              <a:ext cx="302904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33440" y="2170080"/>
              <a:ext cx="265896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7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Общественны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догово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7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AutoShape 9"/>
          <p:cNvSpPr/>
          <p:nvPr/>
        </p:nvSpPr>
        <p:spPr>
          <a:xfrm>
            <a:off x="611280" y="2637000"/>
            <a:ext cx="259380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Н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образова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запросы семь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общ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и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6227640" y="2637000"/>
            <a:ext cx="2665440" cy="165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ирокое внед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КТ-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 все сферы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 rot="1534800">
            <a:off x="2339640" y="443700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396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3"/>
          <p:cNvSpPr/>
          <p:nvPr/>
        </p:nvSpPr>
        <p:spPr>
          <a:xfrm rot="9180000">
            <a:off x="5724360" y="443700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396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6"/>
          <p:cNvSpPr/>
          <p:nvPr/>
        </p:nvSpPr>
        <p:spPr>
          <a:xfrm>
            <a:off x="3419640" y="1268280"/>
            <a:ext cx="223200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облемы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рате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395280" y="5661000"/>
            <a:ext cx="813744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252"/>
              </a:gs>
              <a:gs pos="100000">
                <a:srgbClr val="3c6bba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Воспитание, социально-педагогическая поддержка становле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развития высоконравственного, ответственного, творческ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инициативного, компетентного гражданина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7"/>
          <p:cNvSpPr/>
          <p:nvPr/>
        </p:nvSpPr>
        <p:spPr>
          <a:xfrm rot="5400000">
            <a:off x="4210920" y="277956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3963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образовательное пространство стр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совокупность институтов социализации, которая оказывает воздействие на формирование будущих поколений ее граждан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Миссия системы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образовани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– формирование гражданской идентичности как условие укрепления российской государственност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концепция многокультурного плюрал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се нации и народы, проживающие на территории Российской Федерации, равны между собой и имеют равные права на развитие своей культуры, своего языка и т. д. в рамках одной российской культуры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Под </a:t>
            </a: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стандартом понимается система требований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ования к результатам освоения основных образовательных программ, требования к структуре основных образовательных программ и требования к условиям реализации основных образовательных програ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требования к результатам освоения основных образовательных пр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это совокупность потребностей семьи, общества и государства к результатам образования, сформулированная на основе обобщения результатов глубоких социологических исследова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В основе стандарта должен лежать новый тип взаимоотношений между личностью, обществом и государством, который в наиболее полной мере реализует права человека и граждани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ставляют собой описа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ируемых результатов образо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которые могут быть реально достигнуты в учреждениях, реализующих основные общеобразовательные программы, независимо от их вида, местонахождения и организационно-правовой фо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функции стандартов в образовательном проце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ения доступности качественного образо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ования культурной идентич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ункции обеспечения объективности оценивания результатов образования, нормализации учебной нагрузки обучающих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ункции обеспечения процесса демократизации управления образованием, сохранения единого образовательного простра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Rectangle 2" descr=""/>
          <p:cNvPicPr/>
          <p:nvPr/>
        </p:nvPicPr>
        <p:blipFill>
          <a:blip r:embed="rId1"/>
          <a:stretch/>
        </p:blipFill>
        <p:spPr>
          <a:xfrm>
            <a:off x="-42840" y="268200"/>
            <a:ext cx="9193320" cy="1158840"/>
          </a:xfrm>
          <a:prstGeom prst="rect">
            <a:avLst/>
          </a:prstGeom>
          <a:ln w="0">
            <a:noFill/>
          </a:ln>
        </p:spPr>
      </p:pic>
      <p:sp>
        <p:nvSpPr>
          <p:cNvPr id="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3F53-CC34-4C94-86C9-4BE7699065DF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108000" y="1268280"/>
            <a:ext cx="1008000" cy="482472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4824720"/>
              <a:gd name="textAreaBottom" fmla="*/ 4775760 h 4824720"/>
            </a:gdLst>
            <a:ahLst/>
            <a:rect l="textAreaLeft" t="textAreaTop" r="textAreaRight" b="textAreaBottom"/>
            <a:pathLst>
              <a:path w="21600" h="103358">
                <a:moveTo>
                  <a:pt x="3600" y="0"/>
                </a:moveTo>
                <a:arcTo wR="3600" hR="3600" stAng="16200000" swAng="-5400000"/>
                <a:lnTo>
                  <a:pt x="0" y="99758"/>
                </a:lnTo>
                <a:arcTo wR="3600" hR="3600" stAng="10800000" swAng="-5400000"/>
                <a:lnTo>
                  <a:pt x="18000" y="1033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1187280" y="3645000"/>
            <a:ext cx="505080" cy="431640"/>
          </a:xfrm>
          <a:custGeom>
            <a:avLst/>
            <a:gdLst>
              <a:gd name="textAreaLeft" fmla="*/ 78840 w 505080"/>
              <a:gd name="textAreaRight" fmla="*/ 442080 w 50508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6"/>
          <p:cNvSpPr/>
          <p:nvPr/>
        </p:nvSpPr>
        <p:spPr>
          <a:xfrm>
            <a:off x="1692360" y="1268280"/>
            <a:ext cx="2158920" cy="1297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рук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7"/>
          <p:cNvSpPr/>
          <p:nvPr/>
        </p:nvSpPr>
        <p:spPr>
          <a:xfrm>
            <a:off x="5292720" y="170028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6"/>
          <p:cNvSpPr/>
          <p:nvPr/>
        </p:nvSpPr>
        <p:spPr>
          <a:xfrm>
            <a:off x="1763640" y="3213000"/>
            <a:ext cx="2160720" cy="129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ребования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езульта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своения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1692360" y="5156280"/>
            <a:ext cx="2232000" cy="144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ребования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слов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еализации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6"/>
          <p:cNvSpPr/>
          <p:nvPr/>
        </p:nvSpPr>
        <p:spPr>
          <a:xfrm>
            <a:off x="6084720" y="3321000"/>
            <a:ext cx="2880000" cy="14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жидаемые дост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истем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6"/>
          <p:cNvSpPr/>
          <p:nvPr/>
        </p:nvSpPr>
        <p:spPr>
          <a:xfrm>
            <a:off x="6083280" y="1268280"/>
            <a:ext cx="2881440" cy="165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рган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педаг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слов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истем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6"/>
          <p:cNvSpPr/>
          <p:nvPr/>
        </p:nvSpPr>
        <p:spPr>
          <a:xfrm>
            <a:off x="6083280" y="5229360"/>
            <a:ext cx="2881440" cy="1411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есурсы: кад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атериальная баз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нформац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2484360" y="2637000"/>
            <a:ext cx="574920" cy="5047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6"/>
          <p:cNvSpPr/>
          <p:nvPr/>
        </p:nvSpPr>
        <p:spPr>
          <a:xfrm>
            <a:off x="2484360" y="4579920"/>
            <a:ext cx="574920" cy="5047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7"/>
          <p:cNvSpPr/>
          <p:nvPr/>
        </p:nvSpPr>
        <p:spPr>
          <a:xfrm>
            <a:off x="5292720" y="371628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7"/>
          <p:cNvSpPr/>
          <p:nvPr/>
        </p:nvSpPr>
        <p:spPr>
          <a:xfrm>
            <a:off x="5292720" y="5589720"/>
            <a:ext cx="719280" cy="57600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4140360" y="836640"/>
            <a:ext cx="1079280" cy="595008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5950080"/>
              <a:gd name="textAreaBottom" fmla="*/ 5897520 h 5950080"/>
            </a:gdLst>
            <a:ahLst/>
            <a:rect l="textAreaLeft" t="textAreaTop" r="textAreaRight" b="textAreaBottom"/>
            <a:pathLst>
              <a:path w="21600" h="119048">
                <a:moveTo>
                  <a:pt x="3600" y="0"/>
                </a:moveTo>
                <a:arcTo wR="3600" hR="3600" stAng="16200000" swAng="-5400000"/>
                <a:lnTo>
                  <a:pt x="0" y="115448"/>
                </a:lnTo>
                <a:arcTo wR="3600" hR="3600" stAng="10800000" swAng="-5400000"/>
                <a:lnTo>
                  <a:pt x="18000" y="1190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0" y="-10008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Lucida Sans Unicode"/>
              </a:rPr>
              <a:t>Стандарт как совокупность трех систем треб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txBody>
          <a:bodyPr anchor="t">
            <a:normAutofit/>
          </a:bodyPr>
          <a:p>
            <a:pPr marL="365040" indent="-255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6699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3071880" y="1341360"/>
            <a:ext cx="278604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6699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6699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6699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амоопредел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вн</a:t>
            </a: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утренняя п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6699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мотивация (учебная, социальна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границы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6699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Ценностна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морально-э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ориента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6699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Регулятив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3000240" y="4724280"/>
            <a:ext cx="314352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6699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Позна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становление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6699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Основы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научных зн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6699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7"/>
          <p:cNvSpPr/>
          <p:nvPr/>
        </p:nvSpPr>
        <p:spPr>
          <a:xfrm>
            <a:off x="6572160" y="568656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Предметные и метапредметные действия с учебным материа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6"/>
          <p:cNvSpPr/>
          <p:nvPr/>
        </p:nvSpPr>
        <p:spPr>
          <a:xfrm>
            <a:off x="6572160" y="5643720"/>
            <a:ext cx="2071800" cy="1071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 rot="5400000">
            <a:off x="7251480" y="5106960"/>
            <a:ext cx="646200" cy="57600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0" y="214200"/>
            <a:ext cx="8642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Lucida Sans Unicode"/>
              </a:rPr>
              <a:t>Требования к результатам осво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Lucida Sans Unicode"/>
              </a:rPr>
              <a:t>основной образовательной 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3"/>
          <p:cNvSpPr/>
          <p:nvPr/>
        </p:nvSpPr>
        <p:spPr>
          <a:xfrm>
            <a:off x="179280" y="189000"/>
            <a:ext cx="8640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b61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Требования к структуре основной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6"/>
          <p:cNvSpPr/>
          <p:nvPr/>
        </p:nvSpPr>
        <p:spPr>
          <a:xfrm>
            <a:off x="250920" y="1700280"/>
            <a:ext cx="864216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  <a:ea typeface="Tahoma"/>
              </a:rPr>
              <a:t>ТРЕБ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7"/>
          <p:cNvSpPr/>
          <p:nvPr/>
        </p:nvSpPr>
        <p:spPr>
          <a:xfrm rot="5400000">
            <a:off x="494640" y="299700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1428840" y="4000680"/>
            <a:ext cx="1114200" cy="1655640"/>
          </a:xfrm>
          <a:custGeom>
            <a:avLst/>
            <a:gdLst>
              <a:gd name="textAreaLeft" fmla="*/ 54360 w 1114200"/>
              <a:gd name="textAreaRight" fmla="*/ 1059840 w 11142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93">
                <a:moveTo>
                  <a:pt x="3600" y="0"/>
                </a:moveTo>
                <a:arcTo wR="3600" hR="3600" stAng="16200000" swAng="-5400000"/>
                <a:lnTo>
                  <a:pt x="0" y="28493"/>
                </a:lnTo>
                <a:arcTo wR="3600" hR="3600" stAng="10800000" swAng="-5400000"/>
                <a:lnTo>
                  <a:pt x="18000" y="32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ланиру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5715000" y="4059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зопас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2635200" y="4000680"/>
            <a:ext cx="793800" cy="1655640"/>
          </a:xfrm>
          <a:custGeom>
            <a:avLst/>
            <a:gdLst>
              <a:gd name="textAreaLeft" fmla="*/ 38520 w 793800"/>
              <a:gd name="textAreaRight" fmla="*/ 755280 w 793800"/>
              <a:gd name="textAreaTop" fmla="*/ 38520 h 1655640"/>
              <a:gd name="textAreaBottom" fmla="*/ 1617120 h 1655640"/>
            </a:gdLst>
            <a:ahLst/>
            <a:rect l="textAreaLeft" t="textAreaTop" r="textAreaRight" b="textAreaBottom"/>
            <a:pathLst>
              <a:path w="21600" h="45041">
                <a:moveTo>
                  <a:pt x="3600" y="0"/>
                </a:moveTo>
                <a:arcTo wR="3600" hR="3600" stAng="16200000" swAng="-5400000"/>
                <a:lnTo>
                  <a:pt x="0" y="41441"/>
                </a:lnTo>
                <a:arcTo wR="3600" hR="3600" stAng="10800000" swAng="-5400000"/>
                <a:lnTo>
                  <a:pt x="18000" y="450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азис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еб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3571920" y="4071960"/>
            <a:ext cx="1046160" cy="1655640"/>
          </a:xfrm>
          <a:custGeom>
            <a:avLst/>
            <a:gdLst>
              <a:gd name="textAreaLeft" fmla="*/ 50760 w 1046160"/>
              <a:gd name="textAreaRight" fmla="*/ 995400 w 1046160"/>
              <a:gd name="textAreaTop" fmla="*/ 50760 h 1655640"/>
              <a:gd name="textAreaBottom" fmla="*/ 1604880 h 1655640"/>
            </a:gdLst>
            <a:ahLst/>
            <a:rect l="textAreaLeft" t="textAreaTop" r="textAreaRight" b="textAreaBottom"/>
            <a:pathLst>
              <a:path w="21600" h="34180">
                <a:moveTo>
                  <a:pt x="3600" y="0"/>
                </a:moveTo>
                <a:arcTo wR="3600" hR="3600" stAng="16200000" swAng="-5400000"/>
                <a:lnTo>
                  <a:pt x="0" y="30580"/>
                </a:lnTo>
                <a:arcTo wR="3600" hR="3600" stAng="10800000" swAng="-5400000"/>
                <a:lnTo>
                  <a:pt x="18000" y="341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214200" y="4000680"/>
            <a:ext cx="1143000" cy="164304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643040"/>
              <a:gd name="textAreaBottom" fmla="*/ 1587240 h 1643040"/>
            </a:gdLst>
            <a:ahLst/>
            <a:rect l="textAreaLeft" t="textAreaTop" r="textAreaRight" b="textAreaBottom"/>
            <a:pathLst>
              <a:path w="21600" h="31047">
                <a:moveTo>
                  <a:pt x="3600" y="0"/>
                </a:moveTo>
                <a:arcTo wR="3600" hR="3600" stAng="16200000" swAng="-5400000"/>
                <a:lnTo>
                  <a:pt x="0" y="27447"/>
                </a:lnTo>
                <a:arcTo wR="3600" hR="3600" stAng="10800000" swAng="-5400000"/>
                <a:lnTo>
                  <a:pt x="18000" y="310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ухов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рав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4714920" y="4059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ме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6858000" y="4005360"/>
            <a:ext cx="1214280" cy="1655640"/>
          </a:xfrm>
          <a:custGeom>
            <a:avLst/>
            <a:gdLst>
              <a:gd name="textAreaLeft" fmla="*/ 59040 w 1214280"/>
              <a:gd name="textAreaRight" fmla="*/ 1155240 w 1214280"/>
              <a:gd name="textAreaTop" fmla="*/ 59040 h 1655640"/>
              <a:gd name="textAreaBottom" fmla="*/ 1596600 h 1655640"/>
            </a:gdLst>
            <a:ahLst/>
            <a:rect l="textAreaLeft" t="textAreaTop" r="textAreaRight" b="textAreaBottom"/>
            <a:pathLst>
              <a:path w="21600" h="29449">
                <a:moveTo>
                  <a:pt x="3600" y="0"/>
                </a:moveTo>
                <a:arcTo wR="3600" hR="3600" stAng="16200000" swAng="-5400000"/>
                <a:lnTo>
                  <a:pt x="0" y="25849"/>
                </a:lnTo>
                <a:arcTo wR="3600" hR="3600" stAng="10800000" swAng="-5400000"/>
                <a:lnTo>
                  <a:pt x="18000" y="294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ррекцио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7"/>
          <p:cNvSpPr/>
          <p:nvPr/>
        </p:nvSpPr>
        <p:spPr>
          <a:xfrm rot="5400000">
            <a:off x="1566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7"/>
          <p:cNvSpPr/>
          <p:nvPr/>
        </p:nvSpPr>
        <p:spPr>
          <a:xfrm rot="5400000">
            <a:off x="256680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7"/>
          <p:cNvSpPr/>
          <p:nvPr/>
        </p:nvSpPr>
        <p:spPr>
          <a:xfrm rot="5400000">
            <a:off x="349560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7"/>
          <p:cNvSpPr/>
          <p:nvPr/>
        </p:nvSpPr>
        <p:spPr>
          <a:xfrm rot="5400000">
            <a:off x="4571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 rot="5400000">
            <a:off x="5795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7"/>
          <p:cNvSpPr/>
          <p:nvPr/>
        </p:nvSpPr>
        <p:spPr>
          <a:xfrm rot="5400000">
            <a:off x="702144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7"/>
          <p:cNvSpPr/>
          <p:nvPr/>
        </p:nvSpPr>
        <p:spPr>
          <a:xfrm rot="5400000">
            <a:off x="8100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8172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B9D0-C852-47A3-B9CE-E3007142526A}" type="slidenum"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E941-1E33-4E4C-A463-C2BDF3A4E16B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0028-DA25-406D-ADD9-5137D2FB38DA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3492360" y="2924280"/>
            <a:ext cx="2232000" cy="144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тандарт об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3492360" y="692280"/>
            <a:ext cx="2232000" cy="1368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овая ц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612720" y="1773360"/>
            <a:ext cx="2087640" cy="1584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овые 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 rot="20502000">
            <a:off x="2700000" y="407628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 rot="5400000">
            <a:off x="4211280" y="451008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4"/>
          <p:cNvSpPr/>
          <p:nvPr/>
        </p:nvSpPr>
        <p:spPr>
          <a:xfrm rot="5400000">
            <a:off x="4211280" y="220500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 rot="9531000">
            <a:off x="5724000" y="256500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6"/>
          <p:cNvSpPr/>
          <p:nvPr/>
        </p:nvSpPr>
        <p:spPr>
          <a:xfrm>
            <a:off x="6661080" y="1773360"/>
            <a:ext cx="2087640" cy="1584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овое 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-36360" y="46080"/>
            <a:ext cx="604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468360" y="4149720"/>
            <a:ext cx="2087640" cy="1584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ов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527280" y="5229360"/>
            <a:ext cx="208764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овые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 подготовк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6661080" y="4149720"/>
            <a:ext cx="2087640" cy="1584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учителей 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уч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 rot="982200">
            <a:off x="2771280" y="256536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 rot="12505800">
            <a:off x="5868720" y="422064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90F5-CA32-445E-B7E2-C493846E85E8}" type="slidenum"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Rectangl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662960" cy="990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временное содержание образования не может ограничиваться перечнем требований к предметным знаниям, учениям и навыкам. Оно должно охватить все основные компоненты социализ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у духовно-нравственных це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у научных представлений о природе, обществе и челове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у универсальных учебных действий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2BE8-A089-42E2-A90B-99A29DB5362E}" type="slidenum"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Rectangle 2" descr=""/>
          <p:cNvPicPr/>
          <p:nvPr/>
        </p:nvPicPr>
        <p:blipFill>
          <a:blip r:embed="rId1"/>
          <a:stretch/>
        </p:blipFill>
        <p:spPr>
          <a:xfrm>
            <a:off x="-255600" y="-648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ффективность современного учебно-воспитательного процесса обеспечивается  </a:t>
            </a:r>
            <a:r>
              <a:rPr b="0" lang="en-US" sz="3200" spc="-1" strike="noStrike">
                <a:solidFill>
                  <a:srgbClr val="1faecd"/>
                </a:solidFill>
                <a:latin typeface="Arial"/>
              </a:rPr>
              <a:t>инновационной  образовательной средой - систем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сурсов, инструментов и технологий, обеспечивающих достижение требований к результатам освоения основной образовательной программы образовательного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DA05-18C8-4367-BD17-B293BD3E61F2}" type="slidenum"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15BA-887A-47A1-9526-C1A256F71C4A}" type="slidenum"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B4A1-9DEF-4035-B756-8846F3D5E836}" type="slidenum"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3492360" y="2924280"/>
            <a:ext cx="2232000" cy="144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Педагог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потенц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инновацио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образов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ср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3492360" y="571680"/>
            <a:ext cx="223200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коллектив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и работы в групп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28760" y="1000080"/>
            <a:ext cx="208728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Индивидуал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учеб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 rot="9772800">
            <a:off x="2710800" y="38793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 rot="16200000">
            <a:off x="4211280" y="213804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 rot="20442600">
            <a:off x="5646600" y="181764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6661080" y="3273480"/>
            <a:ext cx="208764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сихолог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едагог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оддерж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учеб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-36360" y="46080"/>
            <a:ext cx="604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468360" y="3571920"/>
            <a:ext cx="2087640" cy="106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еал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истем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еятельност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од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6661080" y="5130720"/>
            <a:ext cx="2087640" cy="129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азноуровне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одерж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бразовате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есур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 rot="12283800">
            <a:off x="2771640" y="256500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0"/>
          <p:cNvSpPr/>
          <p:nvPr/>
        </p:nvSpPr>
        <p:spPr>
          <a:xfrm rot="1810200">
            <a:off x="5740200" y="464184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428760" y="2273400"/>
            <a:ext cx="2087280" cy="108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Создание ситу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успеш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ля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84200" y="5006880"/>
            <a:ext cx="2087640" cy="142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Гибкость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рганизацио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структур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с использов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3556080" y="5373720"/>
            <a:ext cx="2087640" cy="119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Интенсиф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6627960" y="2201760"/>
            <a:ext cx="2087280" cy="79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Социал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6556320" y="1120680"/>
            <a:ext cx="2087640" cy="73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Мотивация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самообразов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0"/>
          <p:cNvSpPr/>
          <p:nvPr/>
        </p:nvSpPr>
        <p:spPr>
          <a:xfrm rot="12283800">
            <a:off x="2658960" y="176652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5"/>
          <p:cNvSpPr/>
          <p:nvPr/>
        </p:nvSpPr>
        <p:spPr>
          <a:xfrm rot="20442600">
            <a:off x="5877000" y="271764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 rot="1810200">
            <a:off x="5811480" y="3927240"/>
            <a:ext cx="719280" cy="57600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 rot="9772800">
            <a:off x="2710800" y="461592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 rot="5400000">
            <a:off x="4214520" y="457200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39639d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4AD6-0CFC-4B3F-897F-E85EAFA361CD}" type="slidenum"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3500280" y="1571760"/>
            <a:ext cx="207180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5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В традицио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систе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бразовате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6681960" y="2786040"/>
            <a:ext cx="2319120" cy="207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33339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рганизу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деятель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ученика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инновацио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бразовате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сре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6556320" y="1214280"/>
            <a:ext cx="244476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33339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Уч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 rot="10800000">
            <a:off x="2643120" y="1924200"/>
            <a:ext cx="719280" cy="57600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0"/>
          <p:cNvSpPr/>
          <p:nvPr/>
        </p:nvSpPr>
        <p:spPr>
          <a:xfrm>
            <a:off x="857160" y="214200"/>
            <a:ext cx="4357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-71280"/>
            <a:ext cx="928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Изменение роли участников педагогического проце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5715000" y="1928880"/>
            <a:ext cx="719280" cy="57636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550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AutoShape 9"/>
          <p:cNvGrpSpPr/>
          <p:nvPr/>
        </p:nvGrpSpPr>
        <p:grpSpPr>
          <a:xfrm>
            <a:off x="60480" y="1152360"/>
            <a:ext cx="2597040" cy="749520"/>
            <a:chOff x="60480" y="1152360"/>
            <a:chExt cx="2597040" cy="749520"/>
          </a:xfrm>
        </p:grpSpPr>
        <p:pic>
          <p:nvPicPr>
            <p:cNvPr id="179" name="AutoShape 9" descr=""/>
            <p:cNvPicPr/>
            <p:nvPr/>
          </p:nvPicPr>
          <p:blipFill>
            <a:blip r:embed="rId1"/>
            <a:stretch/>
          </p:blipFill>
          <p:spPr>
            <a:xfrm>
              <a:off x="60480" y="1152360"/>
              <a:ext cx="25970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71360" y="1243080"/>
              <a:ext cx="2387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Уче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AutoShape 9"/>
          <p:cNvGrpSpPr/>
          <p:nvPr/>
        </p:nvGrpSpPr>
        <p:grpSpPr>
          <a:xfrm>
            <a:off x="60480" y="1706400"/>
            <a:ext cx="2597040" cy="908280"/>
            <a:chOff x="60480" y="1706400"/>
            <a:chExt cx="2597040" cy="908280"/>
          </a:xfrm>
        </p:grpSpPr>
        <p:pic>
          <p:nvPicPr>
            <p:cNvPr id="182" name="AutoShape 9" descr=""/>
            <p:cNvPicPr/>
            <p:nvPr/>
          </p:nvPicPr>
          <p:blipFill>
            <a:blip r:embed="rId2"/>
            <a:stretch/>
          </p:blipFill>
          <p:spPr>
            <a:xfrm>
              <a:off x="60480" y="1706400"/>
              <a:ext cx="259704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74600" y="1889280"/>
              <a:ext cx="23814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олучает готовую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информаци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AutoShape 9"/>
          <p:cNvGrpSpPr/>
          <p:nvPr/>
        </p:nvGrpSpPr>
        <p:grpSpPr>
          <a:xfrm>
            <a:off x="60480" y="2706840"/>
            <a:ext cx="2597040" cy="2120760"/>
            <a:chOff x="60480" y="2706840"/>
            <a:chExt cx="2597040" cy="2120760"/>
          </a:xfrm>
        </p:grpSpPr>
        <p:pic>
          <p:nvPicPr>
            <p:cNvPr id="185" name="AutoShape 9" descr=""/>
            <p:cNvPicPr/>
            <p:nvPr/>
          </p:nvPicPr>
          <p:blipFill>
            <a:blip r:embed="rId3"/>
            <a:stretch/>
          </p:blipFill>
          <p:spPr>
            <a:xfrm>
              <a:off x="60480" y="2706840"/>
              <a:ext cx="2597040" cy="21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33280" y="2948040"/>
              <a:ext cx="22636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Осуществляет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оис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выбо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анали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систематизацию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презентаци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AutoShape 9"/>
          <p:cNvSpPr/>
          <p:nvPr/>
        </p:nvSpPr>
        <p:spPr>
          <a:xfrm>
            <a:off x="6556320" y="1857240"/>
            <a:ext cx="24447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33339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Транслиру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информа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3357720" y="4143240"/>
            <a:ext cx="23572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252"/>
              </a:gs>
              <a:gs pos="100000">
                <a:srgbClr val="3c6bba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овое кач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3286080" y="4929120"/>
            <a:ext cx="257184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252"/>
              </a:gs>
              <a:gs pos="100000">
                <a:srgbClr val="3c6bba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Новый образов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результ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714680" y="5786280"/>
            <a:ext cx="54291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2252"/>
              </a:gs>
              <a:gs pos="100000">
                <a:srgbClr val="3c6bba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«Компетентности к обновл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компетенций» и мотивация к обуч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на разных этапах развития личности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Стрелка углом 26"/>
          <p:cNvGrpSpPr/>
          <p:nvPr/>
        </p:nvGrpSpPr>
        <p:grpSpPr>
          <a:xfrm>
            <a:off x="2633760" y="3389400"/>
            <a:ext cx="1798560" cy="792000"/>
            <a:chOff x="2633760" y="3389400"/>
            <a:chExt cx="1798560" cy="792000"/>
          </a:xfrm>
        </p:grpSpPr>
        <p:pic>
          <p:nvPicPr>
            <p:cNvPr id="192" name="Стрелка углом 26" descr=""/>
            <p:cNvPicPr/>
            <p:nvPr/>
          </p:nvPicPr>
          <p:blipFill>
            <a:blip r:embed="rId4"/>
            <a:stretch/>
          </p:blipFill>
          <p:spPr>
            <a:xfrm>
              <a:off x="2633760" y="3389400"/>
              <a:ext cx="1798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5400000">
              <a:off x="3216960" y="2926440"/>
              <a:ext cx="63972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Стрелка углом 27"/>
          <p:cNvSpPr/>
          <p:nvPr/>
        </p:nvSpPr>
        <p:spPr>
          <a:xfrm flipV="1" rot="5400000">
            <a:off x="5429880" y="2928600"/>
            <a:ext cx="639720" cy="1644480"/>
          </a:xfrm>
          <a:custGeom>
            <a:avLst/>
            <a:gdLst/>
            <a:ahLst/>
            <a:rect l="l" t="t" r="r" b="b"/>
            <a:pathLst>
              <a:path w="639763" h="1644650">
                <a:moveTo>
                  <a:pt x="0" y="1644650"/>
                </a:moveTo>
                <a:lnTo>
                  <a:pt x="0" y="359867"/>
                </a:lnTo>
                <a:lnTo>
                  <a:pt x="0" y="359867"/>
                </a:lnTo>
                <a:arcTo wR="279896" hR="279896" stAng="10800000" swAng="5400000"/>
                <a:lnTo>
                  <a:pt x="479822" y="79970"/>
                </a:lnTo>
                <a:lnTo>
                  <a:pt x="479822" y="0"/>
                </a:lnTo>
                <a:lnTo>
                  <a:pt x="639763" y="159941"/>
                </a:lnTo>
                <a:lnTo>
                  <a:pt x="479822" y="319882"/>
                </a:lnTo>
                <a:lnTo>
                  <a:pt x="479822" y="239911"/>
                </a:lnTo>
                <a:lnTo>
                  <a:pt x="279896" y="239911"/>
                </a:lnTo>
                <a:lnTo>
                  <a:pt x="279896" y="239911"/>
                </a:lnTo>
                <a:arcTo wR="119956" hR="119956" stAng="-5400000" swAng="-5400000"/>
                <a:lnTo>
                  <a:pt x="159941" y="1644650"/>
                </a:lnTo>
                <a:close/>
              </a:path>
            </a:pathLst>
          </a:cu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0"/>
          </a:gradFill>
          <a:ln w="9360">
            <a:solidFill>
              <a:srgbClr val="333399"/>
            </a:solidFill>
            <a:round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6:44:42Z</dcterms:created>
  <dc:creator>андрей</dc:creator>
  <dc:description/>
  <dc:language>en-US</dc:language>
  <cp:lastModifiedBy>Customer</cp:lastModifiedBy>
  <dcterms:modified xsi:type="dcterms:W3CDTF">2013-01-26T07:31:2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